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9B6-AFF4-4EF6-835C-DB45F826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9A1-AFF1-48B1-8E16-DA9F56E0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B45-2771-49C2-8DA8-A58E4256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FC2-059B-4DE4-9D9F-A8E26C85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9D59-6274-4103-AD92-818DE0B2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F74E-250D-4568-B87E-BB2EFF40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C7AA-9082-4467-94F9-AD3637CC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55BE-A9B0-420D-9A48-54611727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58CE-FFC8-4A76-842A-0FD8A598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0ED6-F767-418D-8FFC-9056D9E5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AB37-163F-4CFA-961C-3F09F94B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088-D262-4323-B0FA-B4D052E8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ED1D-6C24-4999-904A-C4FCA7B6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DA60-7DD0-4D30-A8FA-314E438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CB3A-271D-4CB1-876A-8B9B48A1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16EB-3594-4715-BE2D-4BC4B2B8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A69D-AADC-4171-87CB-C896CCA5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840C-169C-4BF7-9668-50765703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79E3-2EA8-45AD-9BCD-AB9C3412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1A54-A82C-4BD5-AD02-ADCBB3F4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5440-3EC9-4A47-8813-85532C13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610C-0149-4A9B-B6E4-2917B5E0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BD6-3D68-415B-AD0C-0A9E05A4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F0C9-5D82-4C57-9CA1-AF32BB64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4CA3-F703-4861-A96C-C1E2E03E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EE67-52FB-488B-BBEB-73D1EFB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F880-9503-46DA-ACF2-CB17D1E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0900-7CC0-4042-916A-4748F312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FEDC-4DF0-4951-AAA5-09EB52C3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66628-1E5A-48D0-AEA9-A824E363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E060-6D4E-49C1-A497-608FE310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8357D-1F32-41D3-AF93-45539706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6BBDC-DCDC-43B1-82DC-E2734ED2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673-A5D2-40F9-90DE-DAD94053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C2022-2C86-4F70-93D0-F72120AE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0E35-4B25-4CEB-9C58-392A2DD0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1414-2329-4061-B091-B81F1C19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F48D-BD66-4C6C-A557-26D744D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12082-4B62-468F-A3D3-4C7F9095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98536-2F3F-4649-B793-99CE3013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05063-C8A6-495E-AA14-19435406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244C-D2AF-4F5B-8A9C-65F2984D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E0507-98F4-4884-A8C3-D8BFD5F3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FF619-C3A7-4B37-9D37-DADB6B6D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0C5-B9E8-4189-B5E5-352D1BDD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2AC54-CF61-4B30-8E7D-24FAB111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1B981-8F91-4632-9904-4B09D3DB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FF78C-44CE-48F9-BC5E-FC2C1276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3E3FC-1AEA-4B69-90AC-C16B82AE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65AC4-1E22-481D-B12E-367566E2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F16FB-9EEB-4DD0-A72F-799B234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EFA85-C972-4043-829A-84E8DE2F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02554-C733-411F-9E17-5E545707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D582A-7648-4E84-8C02-80A67D6C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AA37-C15A-4688-BBE8-F41A9E56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E9D-6239-427F-B782-B6250E91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C3A80-E8F9-4E00-B8AB-D6BA175D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8C0-0F00-4A27-BB07-87EAA7BF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D9A-58B8-4250-88DF-920B20FE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AFA-2BB5-4D08-9166-17468E3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A82C-69DE-4099-8448-A8FF0BF03127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5765-00E4-4CF2-98D0-FDFDBDC8AD99}" type="slidenum">
              <a:rPr b="0" lang="sr-Latn-C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A18A-FD3D-4C27-B835-30B232AAA95E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D7E8-1461-4AEC-882D-F2389299FEF8}" type="slidenum">
              <a:rPr b="0" lang="sr-Latn-C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B3CC-C968-4FF7-A52B-A9413DF0C6AA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08400" y="530280"/>
            <a:ext cx="6960960" cy="2620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RZANSKI INDEKS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13840" y="1609200"/>
            <a:ext cx="7929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zračunavanje DJ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JIA=zbir cijena akcije/djelila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a bi se otklonili problemi u promjeni djelioca, od 1992 se koristi sledeći obrazac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djelilac = Tekući djelilac*(Ukupna prilagođena tržišna vrijednost/Ukupna neprilagođena tržišna vrijednost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Izračunati novi djelilac, koristeći podatke iz prethodnog primjera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Rješenje: 5*(120/150) = 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Usled stalnih prilagođavanja, vrijednost djelioca Dow Jones prosjeka je neprestano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manjivana (danas je ispod 1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ritik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ekcije u djeliocu prikazuju rast indeksa, što ne predstavlja realnu sliku tržiš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30 akcij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ne može biti reprezentativn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Nestalnost procjene (diobe i zamjene akcij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ikaz trenda ci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onderisani su tržišnom vrijednošć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eks = sadašnja tržišna vrijednost/tržišna vrijednost iz baznog period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mpanije sa većim brojem akcija i većom cijenom akcija presudno utiču na kretanje indeksa. Stoga vrijednost indeksa zavisi od 2 faktora: cijene akcije i broja prodatih (ili kupljenih) akci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Nema prilagođavanja djelio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, NASDAQ, Russel 2000 i s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 se sastoji od 4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d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deksa: industrijski, transportni, sektor usluga i finansijsk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ije presudna najveća tržišna vrijednost kompanije za uključivanje u indeks; bitna je reprezentativnost grane i vodeće kompanije iz tih gran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poredna analiza Dow Jones-a i 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500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-360" y="1609200"/>
            <a:ext cx="8072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imjer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ema podacima u tabeli, izračunati vrijednosno ponderisani indeks tržišta akcija. Dati interpretaciju. Napomena: Akcija A pocijepana je u odnosu 1 stara: 4 nove, akcija B je pocijepana u odnosu 1 stara : 2 nove, dok je kod akcije C izvršena isplata dividende novim akcijama u iznosu od 20%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71680" y="3929040"/>
          <a:ext cx="7358040" cy="1692360"/>
        </p:xfrm>
        <a:graphic>
          <a:graphicData uri="http://schemas.openxmlformats.org/drawingml/2006/table">
            <a:tbl>
              <a:tblPr/>
              <a:tblGrid>
                <a:gridCol w="1000080"/>
                <a:gridCol w="2428920"/>
                <a:gridCol w="1214280"/>
                <a:gridCol w="2714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akcije u EUR, 31.12.200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roj ak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akcije u EUR, 31.12.200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214200" y="1428840"/>
            <a:ext cx="7858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Rješenj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rebuchet MS"/>
              </a:rPr>
              <a:t>Indeks prije cijepanja akcij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(16*500 + 5*1.000 + 80*2.000)/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(8*500 + 6*1.000 + 100*200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173.000/210.000 = 0,8238 *100 = 82,3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rebuchet MS"/>
              </a:rPr>
              <a:t>Indeks nakon cijepanja akcija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(16*2.000 + 5*2.000 + 80*2.400)/     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(8*500 + 6*1.000 + 100*2000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Indeks = 234.000/210.000 = 1,114 *100 = 111,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85840" y="1857240"/>
          <a:ext cx="7858080" cy="1597320"/>
        </p:xfrm>
        <a:graphic>
          <a:graphicData uri="http://schemas.openxmlformats.org/drawingml/2006/table">
            <a:tbl>
              <a:tblPr/>
              <a:tblGrid>
                <a:gridCol w="1189080"/>
                <a:gridCol w="2098440"/>
                <a:gridCol w="1212840"/>
                <a:gridCol w="1354320"/>
                <a:gridCol w="2003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kci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ijena akcije u EUR, 31.12.200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roj ak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roj akcija novo st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ijena akcije u EUR, 31.12.200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10320" cy="828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OKAZATELJI CIJENA NA TRŽIŠTIMA HOV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ZNAČAJ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RETANJE OPŠTEG NIVOA CI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IKATORI OPŠTEG STANJA U PRIVRED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OSTVARENE CJENOVNE PROMJENE – </a:t>
            </a:r>
            <a:r>
              <a:rPr b="0" lang="sr-Latn-CS" sz="2600" spc="-1" strike="noStrike">
                <a:solidFill>
                  <a:srgbClr val="ff0000"/>
                </a:solidFill>
                <a:latin typeface="Trebuchet MS"/>
              </a:rPr>
              <a:t>EX PO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EDNOSTI I NEDOSTACI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6840" y="1609200"/>
            <a:ext cx="7472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Average - prvi pokazatelj cjenovnih promjena akcija (konstruisan prije više od 100 godin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Od tada se razvijaju brojni oblici mjerenja cjenovnih promjena akcija koji se dijele u dvije grupe: prosjeci cijena akcija i indeksi cijena ak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osjeci cijena akcija – cijenom ponderisani prosjec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ndeksi cijena akcija – indeksi ponderisani tržišnom vrijednošću akcij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82520" y="353880"/>
            <a:ext cx="751068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Izračunavanje prosjeka cijena akcij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Aritmetička sredin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Suma cijena akcija se dijeli sa brojem koji se definiše kao djelil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onder je definisan visinom cijene konkretne hartije od vrijednosti – veće cijena hov, veći relativni uticaj na veličinu prosjek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oblemi kod izračunavanja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Zamjena akcija – 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izabrati novu akciju sa sličnim per</a:t>
            </a: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fo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rmansama ili usaglasiti djelilac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Promjena veličine liste – </a:t>
            </a:r>
            <a:r>
              <a:rPr b="0" lang="sr-Latn-CS" sz="2200" spc="-1" strike="noStrike">
                <a:solidFill>
                  <a:srgbClr val="ff0000"/>
                </a:solidFill>
                <a:latin typeface="Trebuchet MS"/>
              </a:rPr>
              <a:t>ponovni obračun kroz usaglašavanje djelioc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Dioba akcija – ako je izvršena dioba akcije od 200eura u razmjeri 5:1, koliko iznosi cijena akcije? Da li to utiče na prosjek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10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Usaglašavanje posle diobe se vrši na 3 načina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Zamjena sa drugom akcijom (veoma je teško naći akciju sa sličnim karakteristikama, posebno ako se isključuje iz prosjeka akcija koja ima značajno mjesto u svojoj djelatnosti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išćenje multiplikatora – podjela 4:1 znači množenje nove cijene sa 4; jednostavan način usaglašavan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rigovanje djelioca – način koji se koristi kod Dow Jones prosjek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51032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42560" y="1213920"/>
            <a:ext cx="8072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rimjer: data je tabela sa sledećim podaci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rosjek iznosi 150/5=3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Izvršena je dioba akcije E u razmjeri 4:1. Izračunati vrijednost djelioca cjenovno ponderisanog indeks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51032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571680" y="1857240"/>
          <a:ext cx="4071600" cy="2595600"/>
        </p:xfrm>
        <a:graphic>
          <a:graphicData uri="http://schemas.openxmlformats.org/drawingml/2006/table">
            <a:tbl>
              <a:tblPr/>
              <a:tblGrid>
                <a:gridCol w="2071440"/>
                <a:gridCol w="2000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28400" y="1285920"/>
            <a:ext cx="72673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Stanje cijena nakon diob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Novi prosjek bi iznosio 120/5 = 24. Međutim, kako nije došl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do promjena na tržištu, prosjek mora ostati nepromijenjen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a djelilac se mora usaglasit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rebuchet MS"/>
              </a:rPr>
              <a:t>Novi djelilac = nova agregatna cijena/stari prosje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rebuchet MS"/>
              </a:rPr>
              <a:t>Novi prosjek = nova agregatna cijena/novi djelila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51032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857160" y="1857240"/>
          <a:ext cx="3357720" cy="258444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k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j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42560" y="12139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djelilac = 120/30 = 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Novi prosjek = 120/4 = 30        jednak je sa starim prosjekom; promjena nastala pri diobi akcija nije uticala na prosjek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rebuchet MS"/>
              </a:rPr>
              <a:t>1991 DJIA je koristio djelilac 0,559; DJTA (transportation) je koristio djelilac 0,709; DJUA (utilities) je koristio djelilac 1,997; DJCA (composite) je koristio djelilac 2,751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Right Arrow 3"/>
          <p:cNvSpPr/>
          <p:nvPr/>
        </p:nvSpPr>
        <p:spPr>
          <a:xfrm>
            <a:off x="3857760" y="1785960"/>
            <a:ext cx="4284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95120" y="-19080"/>
            <a:ext cx="7858440" cy="1238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85480" y="1285920"/>
            <a:ext cx="7786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prosjeci predstavljaju osnovni indikator berzanskih promj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Transportation Average (konstruisan 1884, sastojao se od 11 akcija željezničkih kompanija; 1897 prosjek se koriguje sa 11 na 20 akcija, koliko indeks ima i danas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Industrial Average (konstruisan 1897, sastojao se od 12 akcija, a danas se sastoji od 30 akcija; od originalne liste zadržao se samo General Electric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ow Jones Utilities Average (konstruisan 1929, sastojao se od 18 akcija, a danas se sastoji od 15 akcij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17:16Z</dcterms:created>
  <dc:creator>Ana</dc:creator>
  <dc:description/>
  <dc:language>en-US</dc:language>
  <cp:lastModifiedBy>Ana</cp:lastModifiedBy>
  <dcterms:modified xsi:type="dcterms:W3CDTF">2011-03-04T10:29:48Z</dcterms:modified>
  <cp:revision>12</cp:revision>
  <dc:subject/>
  <dc:title>          ANALIZA  BERZANSKOG POSLOVANJA</dc:title>
</cp:coreProperties>
</file>